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3F8-5CEE-4C17-A7DC-ACC8D940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070-B144-4672-9613-3DC9E798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17F12-1190-4C33-AF8A-F2D9E32E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8FC9E-320B-4695-8CFF-F2599453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5FFF-A590-4B97-B7C8-350D254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E082E-6A60-4810-9397-6EB87539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E2292-4713-4015-94A5-E8E4F260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F2343-56B6-4531-AA5C-C03C8DEE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C547-09C2-489B-A593-FCBB4E9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5FF0E-7611-4B7E-8D10-389B228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11384-6B4F-43AC-9C19-F118C0EB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E78DF-F306-4426-A92A-0B1E4388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22F-C8F8-4C6B-AC23-CC37D751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61A7C-5E40-46F1-BC5D-B0AA319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0FAF8-B7A7-4A88-8511-B85F3995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414CF-3E10-407D-80F5-ED98C45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77756-1F06-45AF-BFD9-A6798A3A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601C-5D51-43D5-B94B-29D95ED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23835-E811-4D69-8DCB-906B604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F186C-5BA2-4A10-85DD-4B2D39F7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629F0-D83F-403E-B18C-0EFFB93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21306-F343-4837-9786-8711322D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A968A-FAF8-4AA8-A92D-E64BE94B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51F-5B90-4337-8E55-D6D4B49D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9FB2-C28C-46F0-AB96-9C34DF12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57609-E78D-495B-8439-1EB833F1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60FC4-759D-4D63-9E9D-93CDA3D7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E7CF2-1A62-4DC1-822A-F09603FC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685A9-2FFE-4B2A-A1C6-8EB17384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275F8-990C-4C53-AB0C-9D1E9422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D349A-B2B1-4FAF-991E-0BBFA79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6097D-441F-4FB7-A151-5E4B9797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CD2AB-33B9-4A8E-91A3-139D39A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358B7-4283-4904-837C-E868B7F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F396-7333-45DF-99E7-36FFC721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2F694-7441-4E1C-B383-453D558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D2E5A-F0A9-4DC7-82B0-E020D087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E5887-5145-435C-90F3-546DEE91C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BB32B-C977-44CD-AE3C-F4D03735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1BB91-FAB2-4F02-9956-7CF7993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04AC8-9898-41FB-AECB-D2E6EF37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6C4ED-65EF-47BB-A8E8-5D1B893A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D2A4-29D9-4DF9-95CD-6746512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3B568C-7EBB-4020-9C09-36281C9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FFDCB-E2CD-46B6-96C9-2536B023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C92E-E95A-4946-BE3E-1B6CE06A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DC0E4-4817-4855-ADF6-54D4BEA5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ACA5F-BC5B-4C27-85B6-EA32FB34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EC7A4-C7DA-44F4-BBFB-DEC2D75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FB02E-908F-461D-A777-24570308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93FD2-66ED-4D17-9FFA-98101880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29CBC-B499-446A-BBF9-8AC20C1B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E044D-EFB0-4320-8E09-5E502CFE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5B916-E8CB-4380-A04C-F7CFD5F6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5719D-E9DA-428F-A3A3-D7862C97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1D893-8B7D-4ADD-9329-8627FE9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007C-C22B-40B0-B04B-606E27EF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54D58-142A-4B14-844C-1FE5CB9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B7673-129E-48AF-9B2F-776E3361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7AAEF-2F8C-4C0C-84CF-D425EB46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2BA10-2C61-47B4-991E-355F8C8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A59E8-5EDF-4C66-A423-F6AF020C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BF181-C3EF-4F42-9DA7-C376E76D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39145-F2DF-4ED5-8340-A4971006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BC6B2B-EEA6-44AD-9640-1A54DD23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B5819-2F3B-465A-AE50-727A74CD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B3787-AF67-4315-96E6-A5BC8F44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65E8-EF16-4D59-9FE6-E599BE8D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1A383-D7FC-4111-96E2-DF4CC5E5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ABEF5-EB13-4408-8EEC-601ACDEE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95845-9E02-45E7-B4B7-2A552BC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2FF95-DFA2-4A39-A273-F563E61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CD0B4-406C-4A04-9BB4-EEA5988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92DF4-C8C6-45A0-863D-10387E9E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03533-37D2-4654-A87B-FAD240B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1E539-8CBA-4182-B25C-52B41B2A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883AD-C9C7-4F11-90C3-589F90C0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20D98-E303-4412-892F-EAC1EC55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A3C5-7B71-4796-9427-D39B3805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9C2CB5-60A1-4215-A6C0-D11B5D64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4A1ED-9A86-4F4D-8654-A5A8AEFD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13F1A-7145-4238-9D84-C5BF647A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E5FBC-DEE1-4933-8E9A-49B57BEE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F5C8A-B67B-43D9-A016-C1BF242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A33E7-BAE2-466A-AB84-D8849E56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546C0D-44AA-423C-92E6-870424B1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F8087-7B86-452A-AB66-01D03B2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84017-F34E-4580-A988-90E9917E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253130-8F29-4D49-A234-AB47C182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A08C-321C-4E4D-9698-DE02C063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4B52B6-D108-4A35-9A0D-570B2E02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6D6D0-CF5C-4E25-A473-0D333DE9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20E70-3054-495C-83B7-D23507E1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F5F33-9580-497C-872E-01FF75C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09CD2-8FE8-400F-96C0-A10E46D5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F7169-C403-43E4-BA3A-6188B3ED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CB8B3-A9A8-42E3-8C69-B865D4D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62D30-BE23-4902-9715-2C80FCA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4825D-F629-441E-8D9C-595261F0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2351A-6AE4-4CCA-97FA-264C61A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A458-667B-4BF6-9CAA-BD0C6AA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CBA09A-BD48-438D-AE29-7B52D477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DF56F-5109-4DD6-AA29-C351CB98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6FEA0C-399A-4D92-A520-3144ACE0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05D218-A98F-4A07-AD8C-F2FDB751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4B9F91-358A-42A4-A7E0-1A8941EC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01328-350D-41F9-845D-897650D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1FFEEC-C11E-4F53-B818-59B3C538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30C2E-B375-4DEB-8123-2D6972D9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21856-61AD-4F5B-A97D-FD20AE8E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30DD2-491D-4574-9FD2-0AE68463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E59-7ED9-4746-B739-B64A8A6E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DAB-893A-42D2-81DB-CFC694C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C5E13-B93A-41AE-86A8-4F925FE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73A0D-4027-4915-AED4-298CC1E8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5D2C0-1BA0-4139-B600-D2CB17EB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4AE76-1D2F-413F-B698-4184A8AF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87C2FB-5069-4398-8907-45233BE7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F0F4F-AD01-45C4-9596-5F20491E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1D2D5-8E95-4143-9267-8AFA9B5B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732432-2103-4EF3-A30A-DCEA8094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D3C9E-78D3-4C97-BB4D-21022405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34064B-A23E-487F-A97E-1F21851D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A3D2-92E6-47BE-ACA1-027546E7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69EAC9-4217-4D9C-BB3E-50156E67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DB8AC-EA71-4ED4-ACF2-291A5D0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1E168-A9CD-4EFF-8C47-F02FE0C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DCD41-4D19-4C6D-A616-030C6356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FB44B-6833-4B76-BB4F-410055A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E8F6FA-F2C3-4111-A552-DED8061B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CD512-B33A-4F25-A77C-4AAC9A9B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E84CB-1D80-4753-863D-AA0C3300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7E25F-23B4-4714-B84C-DBC40B1B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87C2D-E320-4F25-AE30-6A92E61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5249-D135-42D0-83EF-34317056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74E1C-32D5-4961-B3A3-0EC4339A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EF2590-EA82-49BD-A533-5EF1D79D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24F22-382B-4D08-8483-E471A93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FE0A4-AF6D-4488-9D32-A9D323C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787E8-AFAE-49AA-B2BE-3616B66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B787D-03DB-4687-A1D9-5A96EF0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7E0E82-AA9D-4997-A641-52E90465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235F80-70EB-4C4D-BB79-1249583B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5C5704-6AD7-4C4B-9669-927E48AC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B0CBE-D37C-4A46-A0E6-40712CB4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6814-383B-4AFE-9837-30F4A744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D9E9E-6BB2-4E3B-B5E2-50E2D28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F4960-A94A-4DE9-9BAE-B8DA5881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9AEE71-F4D6-4FC3-83D1-24A947D8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6273E-E87C-42E4-9B35-993780F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A305B-EE1F-4F6D-A749-00CCEB33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A266E-32EB-4227-9781-9FD88FC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33970-0C70-451E-B2BC-A98CCAB1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F25B2-1D85-4B57-BEBE-866DB773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CEE08F-9A14-4F08-A9A4-E4D26F63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ED15CD-5145-4FA6-AF35-91D1063C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69C2-B544-4D66-84FD-F45E0FBA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153A7-354A-4DBE-8307-13774686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DA306-9DFA-44AC-82A0-40213130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BF631D-29F4-4D67-9122-57569960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12B960-FE80-4FC4-A6B9-E0862B8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57A38-2A3B-4B74-B79E-99679284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9EB498-DCCE-43A4-8FFD-42AE097E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A0750-9C2D-44EF-A97E-152A1428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CB73B-904E-414F-9C96-B7796BCD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62956-A27D-48D0-867F-5649A49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EADBAD-8DCC-4EA6-887F-25AD929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92E5-28DE-4F68-A521-FCCDD7B0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87637-0553-42EA-9D7F-6096CE91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ECED8-AC13-4904-B05C-9AA96DA7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332C66-E99B-4183-8C4D-AD715413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3C96-F47A-4A8E-8D3B-8BEAF7F0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4DEA-9C45-4106-9C33-123B1FD0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1EF8-B658-4702-9B78-96EB73C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A8D8-8444-447A-A58A-3F426B9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6F6-69EF-4228-B612-9A996FA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06B5-8EC8-4C46-B51A-0D05016D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B7AA-42AD-40B3-882D-7F07DC1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5E39-C9BD-4537-B9E5-F29675C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0806-8011-4C1F-9FB6-A3D875E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5193-C564-4270-BD58-C59E69D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EA3D-88AD-48F5-8BEC-0E7F1BBB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0BAE5-ED54-4449-8C22-DE9CC7E6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0105-6EE1-4E88-9E0C-49678845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245B-7F65-4172-A293-B948734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4118-07C7-45F7-8F18-8CFE1EC4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2AE-C68D-46C8-96AA-AE7BE3B5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46A6-62CF-47A3-A9DC-1E5DEF55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AFB2-8282-4E92-96F1-1158B6CF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E77C-7610-4657-8840-5B24B5D7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1283-7F24-4093-856D-CB8CDEA1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E91A-5CAE-4041-A674-24409E64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5F022-CDAB-4110-95C2-EC67C17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1EFE-5663-4423-A889-D208C21E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AFE8-D11F-48F7-9126-0A547B01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791C-E6F8-4D6B-A36B-560F5119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252A-4197-49DB-8A1F-99C45F9B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5C4-ACD5-4231-95E0-5850EEC5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92B27-3010-4559-9704-398176AB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3000-0532-44D6-8D8C-9234B9B9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2B6E3-5DB1-4790-B264-E9D1828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73A5C-92C8-4EE9-B717-2C5257A7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47D4-C1EF-458F-ACFF-60183CC6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4A3E-7D5D-49AB-B93A-487D45B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B5ED-1DDD-4635-BCC7-5F3F822F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EA21-F523-4584-9703-7F36BCEA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BDA0E-CD57-422A-9AAA-E088FA0F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92269-BF9F-4602-A129-598A5644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0F8-08D7-4892-99F7-8693EA34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3E0C-3959-44A7-BD79-2672477D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53503-CBCE-4BA4-B314-C811EB99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5899-7F63-404D-870F-C890603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8236D-9A82-47F5-A5BC-B1B5774A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C5A0-AFC5-40C1-BF44-4C984385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3C2B-8B18-424D-98F2-3C2E3BE4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9ADE-023B-43AE-89F8-74D5E06A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0AC2-3125-439C-8C92-55B56ACE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80FA-260A-4D0A-B9CF-5E7462E8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67FD-0FA6-4983-BBFD-22674FB4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7D8-5376-43B1-A2AA-7DE9728B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70C1-651C-41EF-B08D-69B2FF87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24A57-75D9-4A48-9908-4C81EAD2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49B5-35FA-4D7C-AE04-3720A7F4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A82A3-A638-4775-9D56-FCA08E1D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F3D6-4B96-47F7-BEE4-A849D7FB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3A36-618B-4598-8F93-2B17ACB9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8B06-A3E6-4955-8541-6DB07511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A72BF-0199-490F-929E-96A9A19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48FB7-CBF4-46D8-82DE-94C7CA5E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DC11-DD59-4126-98CA-B8D1969D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D43-0419-4C6F-AFE9-570AF1D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75AE-61E5-4FEE-850A-FCEB32B4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2EC8-3151-4A4E-8898-ED725E1A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5B6ED-5C20-4EC1-B51A-7F1A26FB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9FF5-06BC-4687-8DD4-E893D3AD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B3659-CA9E-4CDA-8554-CD03E981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382A-CEE2-47F6-B352-DB82225C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1071C-1405-4355-92E0-3EE924B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A37A5-3211-49B5-A524-CD59B32B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9EDA-C830-4429-8D56-57E8F745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DDB4B-F81C-4B76-A3D1-FB2580F7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6FB-6344-4FB0-BC8E-1B8FEA4B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FBAF-60AD-4710-8EFC-9167BDAA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A1E75-A9CB-44D2-9F65-D2049CBB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DC119-9871-4301-92F0-C237D18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D13F8-13A6-40F2-843E-3096E3C5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C3AC7-85B4-4964-BD00-B329FBA3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67D3-814B-478F-98EB-DA3FEBCA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7CC79-4705-45A2-BCF5-B3175118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E5CB9-E9F1-4FB1-8C35-D9840EB8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64B2E-867B-4CAF-8156-A32D007B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CF40B-3C71-4E90-926C-191934E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4579-40D6-47E2-98B2-8FC15320C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77EC-74E8-44B8-AC05-B7776015F1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C2F-7EC4-4C0D-8688-91B8AA1F58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B6ED-7BB2-4FF3-98BF-8165FE936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206B-7F79-487D-AE02-E029F6D567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168-8951-439E-834C-FDDF454D4B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DB3E-FE0C-4150-A61E-AF4CD8D628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C71B-A5D7-480D-9E55-95763E7C0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D52A-E1C3-4610-981B-E1C5B38622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9693-19D0-470F-AA02-158089154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4212-AC02-4AC1-8346-FDF76CC1CE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935C-EA09-4E0D-9002-1CF72DC2AB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A571-B8C3-45F4-B376-27129E87D8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A337-306E-4BDD-B567-F1F328B2E3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9DA2-1150-423D-86F3-EC179F9391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42F-0929-4888-BF2A-FB7C510FF3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795-8EA9-4FDC-9C9C-E68686CD95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6C30-AE06-494F-A136-D6A157EAB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F1A5-2659-4073-9188-C29BC9F122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BDA-DB26-4B24-9971-DA9ACFED85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8B48-5951-4345-88D1-67B6CCEAB5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9130-6C5E-4BD2-B427-E8BC08562F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5286-EA9B-4EB8-B484-5CA0012539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C449-4FC6-4652-BB2C-5644A11988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D30-5F1D-4987-AA42-B0DBE2E3D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545A-4DF2-4644-99C1-98F635C588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C596-595C-4364-A8B3-9CD4FB6A8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DF1-1C67-4912-8D77-C8AEE3C7E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B695-9A24-493D-8E5F-191FCFDB72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8FB-B318-41D2-8251-4905236AFE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DEE0-FAE0-4C6E-A51F-0629F9F4D2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531F-84E0-4E5C-890C-2E5E302696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D50C-CA6F-469B-A57C-7E002AC43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053-F556-4A1A-BAA4-B368999D3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B6B-6115-47DD-BB20-F458B6B577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34EC-6D39-411D-BB5E-977C83BA4D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62B-1E79-4F22-A98B-0FC6F50AFD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ED4B-2E2E-4426-B584-4CD03A049C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9A8F-1D57-4F67-94D0-26A01FD38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BC8A-E3FB-4E28-B675-EE17064FCB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0" y="3105000"/>
            <a:ext cx="914400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58040" cy="59436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385776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928800" y="52149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409680" y="1433520"/>
            <a:ext cx="8324640" cy="39909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928800" y="150012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785880" y="39290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1" descr=""/>
          <p:cNvPicPr/>
          <p:nvPr/>
        </p:nvPicPr>
        <p:blipFill>
          <a:blip r:embed="rId1"/>
          <a:stretch/>
        </p:blipFill>
        <p:spPr>
          <a:xfrm>
            <a:off x="504720" y="1500120"/>
            <a:ext cx="8134560" cy="38577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4406760" y="204624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1643040" y="3000240"/>
            <a:ext cx="11430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2803680" y="3478320"/>
            <a:ext cx="98244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3786120" y="4000680"/>
            <a:ext cx="1285920" cy="296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3857760" y="4929120"/>
            <a:ext cx="107136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57200" y="1152360"/>
            <a:ext cx="8229600" cy="455328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2549520" y="3403440"/>
            <a:ext cx="16430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1571760" y="4357800"/>
            <a:ext cx="1571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"/>
          <p:cNvSpPr/>
          <p:nvPr/>
        </p:nvSpPr>
        <p:spPr>
          <a:xfrm>
            <a:off x="6858000" y="4857840"/>
            <a:ext cx="1571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485640" y="1990800"/>
            <a:ext cx="8172720" cy="28764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1450800" y="2057400"/>
            <a:ext cx="20703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1571760" y="3500280"/>
            <a:ext cx="206820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124840" cy="575316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2714760" y="5072040"/>
            <a:ext cx="1049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5500800" y="5572080"/>
            <a:ext cx="97776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90680" y="804960"/>
            <a:ext cx="8162640" cy="52480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1717560" y="865080"/>
            <a:ext cx="104796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6265800" y="853920"/>
            <a:ext cx="150012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3451320" y="1817640"/>
            <a:ext cx="1224000" cy="331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3071880" y="2286000"/>
            <a:ext cx="1643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4417920" y="3260880"/>
            <a:ext cx="12859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3500280" y="3760920"/>
            <a:ext cx="9288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8"/>
          <p:cNvSpPr/>
          <p:nvPr/>
        </p:nvSpPr>
        <p:spPr>
          <a:xfrm>
            <a:off x="3429000" y="4214880"/>
            <a:ext cx="107172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9"/>
          <p:cNvSpPr/>
          <p:nvPr/>
        </p:nvSpPr>
        <p:spPr>
          <a:xfrm>
            <a:off x="6929280" y="4714920"/>
            <a:ext cx="12146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0:1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